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188-325F-4FE6-A97C-DE43085C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430-EEDA-429B-A41B-88B8DEC1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2AA-D11A-4770-B60B-9F759A02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A01-EDAE-4144-82F3-B038BAF7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FB5-9E51-4201-9D53-A938929A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362-B878-4DD7-B03D-03CE9B2D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8B1-31F6-42AE-A8DD-5477079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2A9-89E8-466E-9C82-A343B3B7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96C-DDB1-4FD7-AB75-DE761C88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B76-D1F8-489E-ABF5-A8DBCA3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64B-CC6E-400E-8534-553B218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03F-DDAF-4393-B417-BDC04F3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BF2D-7402-438F-A9F3-D6EC1FE16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5 Sobota Pán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zácny t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, túžime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rou sa do Bož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sti vz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ovi ochot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ia chceme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za jeho dobro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, pokoja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háňa únavnej časnosti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raz sa všetko z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ždy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í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d u Pána si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, vzácny to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uši sa rozlieva nebeský j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posie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ej spásy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dostne mu vzdávajme chválu a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chce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pokoja zdr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 všednosti cie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ám stôl hojnosti pripravuje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nás chlebo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sýti s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01:32Z</dcterms:modified>
  <cp:revision>22</cp:revision>
  <dc:subject/>
  <dc:title>Je veľký náš Pán, on slávy je Kráľ Nech do všetkých strán  spev vrúcnych znie chvál.</dc:title>
</cp:coreProperties>
</file>